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613-D363-4796-8EF7-6F3A8C74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CE5-439F-49FC-852D-C402EF2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A9E-F9CB-4BCC-A7E1-5F3BE1D6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0A0-28EB-445F-972C-AB1D09D6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32D8-C522-4DE1-8309-85B38EB5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67D9-8616-4EDA-86F2-23F6BA78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1767-0E9D-4924-BD6C-1F27758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5CDC-2AAF-4489-81A4-BF26B149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D3BE-485E-46AC-870E-9ABEFC27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2C6D-3B39-4884-B054-43AA8490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F869-3A03-4933-9CD3-EBE084E8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984-F696-4AE0-8105-CDA198D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B967-765E-47B1-9091-DDAAA004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CE9-9D9A-4E23-965D-D6A16A2E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0A08-8BF5-478A-8119-1A7E1E3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F022-E996-4DA3-8479-4F9BD4B0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069-9343-4C8E-BE33-84C9E516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09D1E-2ABB-4519-95C9-280AF134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2BE07-BD2B-40A7-A0B9-F0EEFD8A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A4617-1307-4CFA-A323-3880236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E143F-A680-46BD-8B48-D09664B6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F06E9-8F22-4961-A338-AF630AE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DBB-E1D1-4859-A45F-1ADFCA5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1C3B6-EE24-447D-82EF-5BBC4C63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C8D33-4879-47D0-86A3-03E8124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70ADA-DD2F-491A-BEDC-EE732B5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6E361-3313-4559-A6A9-0B0EB9A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D71B3-09BB-4454-8E58-44401B5C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8C4AE-4300-4DF5-A391-95956AB7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7DEF6-6E83-4B49-8B12-7227FF9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652C-8486-422D-91FA-0F843EA7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C420-90EC-4D9C-B6F8-5C40B34D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E717-2184-492A-ABB5-B5F3955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0BF-E099-43BA-B174-07E33475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6D10-00DD-441B-9372-49E1773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E4E0-0985-4FBC-827D-168455C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A7AF-C0EF-47F5-9E82-DF8C6F80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94A3-97CF-43C2-BDE0-CE530584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6F2E-7B1E-4CC4-AD39-196006D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2D9A-023B-4F51-8357-A2D344CC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CAC5-9113-444C-AC3A-C5E195FF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BDFE-B565-4A96-BECD-8F874BD1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0489-A22C-42F1-84C2-BACCD3DF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0C5C1-11A1-486B-92E5-25FFF0F6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7E6-EAB1-46DA-8DF9-5CD099E7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F4487-250E-4EC7-AB6F-1DD34F7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F816D-7456-424B-AA1F-CFE91BA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F1186-F24C-40FC-A9A9-C22B48D9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CB1E9-CC7D-4557-9B18-1939A9B1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9C08C-1EB1-43A9-9901-011E81A9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6A3B8-0DCB-4EB6-8C3F-28F46FD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3060B-1D4E-4B72-A14F-2A97EA6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99CBF-EDAA-4A03-BEFB-43F475F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68D99-71A4-41BA-AE51-B1D0BC59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76B1E-8B05-429B-964D-60A6FDC0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286-A994-4460-9467-0232D537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A1E9C-C404-407C-9762-0DC3E74C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1326E-C1C6-456D-8442-9F1174B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06A08-D28A-4F75-8C20-5764EAE4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C237F-E733-4379-9E34-81614F38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B4851-A1BA-46CE-8CBE-505D6AF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88E91-4422-410F-8EF0-19937FEE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F4626-67DB-44ED-BB86-72537A8A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7591E-6055-4424-8EAA-BBA04A6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131D2-1BA9-4AF2-B22D-C51AE48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48CD9-2EB1-461A-8178-2F342B8B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3FF-E8DE-46B5-969A-C086E28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8D17C-8563-47C7-A0E4-3B94072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B82FF-6F8F-4B6B-B160-BE77DEF3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24091-7C08-4A45-A9E6-6404A08B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E58C2-0C85-482D-A121-7329A355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428ED-53D4-4CBD-B455-72DB392A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3C81A-77E2-407A-B37D-8943E76C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35189-CC92-4933-8CB8-DB25CC8F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105B9-4433-4AD7-BEF9-8262BD45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A1FF4-EC0B-45A7-BC51-64FD741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38B17-9616-41E2-8CE6-D8D9947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282-8836-4A25-BCDA-84C5C2D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2C972-94D2-4CC3-A3EA-28265C9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E2414-668A-4F37-BECC-9B074E8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E5D7B-81FA-437D-99B9-D88EAAA5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D5342-9694-4BF3-953F-F8AFC165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22E80-F3B3-4BDD-B408-7B5641A7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03A-3489-46E9-8EC7-08C7B246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2070-A102-424A-9E1F-C594C4B4B5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7F31-A693-49F5-8262-34C2CD88E7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E4DD-A832-401B-B45A-89CA8AF321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8A0-97A5-41EC-8BC2-F09D83A17D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DDFB-7C5B-4F1C-BF5C-06B0BC79BE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30D2-9D8B-40EB-AB1F-786AAF9AA5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4F8-8D1B-4DD2-9895-C6EE9D0BEF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0000"/>
                </a:solidFill>
                <a:latin typeface="Century Gothic"/>
              </a:rPr>
              <a:t>MILK TEMPERATURE EXPERIMEN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entury Gothic"/>
              </a:rPr>
              <a:t>Forensic Investig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2050920" y="836640"/>
          <a:ext cx="6551640" cy="511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65516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55640" y="1989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755640" y="1916280"/>
            <a:ext cx="6480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side: It took an hour and five minutes to get to its temperature inside which was twenty six degrees. We past the temperature at 12:10 but we kept on recor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utside: We didn’t get to our temperature as there was an accident with the milk. The lowest we got was nineteen degrees. Our temperature to reach was twelve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CONCLUSIO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539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Forte"/>
              </a:rPr>
              <a:t>How do both experiments we did in class relate to my understanding of ‘corpse cooling’?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entury Gothic"/>
              </a:rPr>
              <a:t>By how long it takes for a human body's blood to cool down to its surrounding temperatur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 rot="20663400">
            <a:off x="5651640" y="3933720"/>
            <a:ext cx="266364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-1189080" y="1814400"/>
            <a:ext cx="5043600" cy="50436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orte"/>
              </a:rPr>
              <a:t>Year 7 Room 0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59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By Jess Subritzky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68360" y="1483920"/>
            <a:ext cx="7456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How long will it take for hot milk to cool down to environmental temperature and will it cool down as fast as wat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 rot="1526400">
            <a:off x="4535280" y="2680920"/>
            <a:ext cx="4608360" cy="41767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QUESTIO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539640" y="1341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I think that it will take longer than the water did to cool down because the milk is thicker. I think it will take about an hour and a half to cool down inside and an hour and fifteen to cool down outsi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HYPOTHESI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 rot="316200">
            <a:off x="4067280" y="4581000"/>
            <a:ext cx="1747800" cy="1758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Record the environmental (surroundings) temperatur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Fill the cup approximately half full with hot milk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Use the pen to mark the position of the milk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Record   the initial  temperature of the milk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Record the temperature of the milk every five minute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Stop recording when the milk temperature is the same as the environment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TES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 rot="869400">
            <a:off x="7020000" y="5300280"/>
            <a:ext cx="169236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394920" y="2276280"/>
            <a:ext cx="74674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INSIDE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OUTSIDE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Forte"/>
              </a:rPr>
              <a:t>TEMPERATURES OF SURROUNDINGS</a:t>
            </a:r>
            <a:endParaRPr b="0" lang="en-US" sz="54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INSIDE 1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500120" y="2428920"/>
          <a:ext cx="652788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347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INSIDE 2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57200" y="2714760"/>
          <a:ext cx="6096240" cy="2593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OUTSIDE 1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571760" y="2643120"/>
          <a:ext cx="6095880" cy="2971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Arial"/>
                        </a:rPr>
                        <a:t>TEMPER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: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Forte"/>
              </a:rPr>
              <a:t>RECORDINGS OUTSIDE 2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00120" y="3000240"/>
          <a:ext cx="6096240" cy="2229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1224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1224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7fd13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1:59:59Z</dcterms:created>
  <dc:creator>AliceH</dc:creator>
  <dc:description/>
  <dc:language>en-US</dc:language>
  <cp:lastModifiedBy>AliceH</cp:lastModifiedBy>
  <dcterms:modified xsi:type="dcterms:W3CDTF">2009-07-30T23:53:56Z</dcterms:modified>
  <cp:revision>17</cp:revision>
  <dc:subject/>
  <dc:title>Blood Temperature Experiment</dc:title>
</cp:coreProperties>
</file>